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B44-6210-4079-AB22-7084B593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D2E-60D1-4B82-BF5F-DEE27A7C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E57-9CEF-4DA5-A951-8487F8FD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D9A-9994-45E5-8884-32FB8C0B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1D2A0-6B1E-4BC1-82D1-B510EE81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D8948-4A94-493D-8FF2-6A493CEC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83A18-7AA9-4531-A56E-7BB5E8FD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A999D-989C-4F65-A404-ECABF203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067CE-44F6-4F7E-91AE-738A9EFA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8CAFC-6880-440A-AC2C-69938120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60908-628A-456A-A1AE-6DA04396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DD3-34F9-4FA3-90A0-40AFB989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1E6CF-B266-44B8-9685-8E8F9A6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05ED4-8451-40FD-854D-5647520F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B5101-C804-461E-A5C5-AC2FA968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7D5BA-207F-463A-AEF8-FEF3ECE1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29ADE-DE39-4E25-B8BB-D2BFF6F7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F7F-8D89-46BB-AA1B-684D8927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A64-4473-41ED-A69A-370FBEC9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6C0-5B49-4097-AA60-984DF74F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670-F878-4885-ABB5-F79FCE6F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F4D-A7A3-47F9-9392-C34FBD8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BE8-634D-429F-AA5E-FAC2A92D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2CF-B38E-4301-BB68-5FA5CA25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CAC2-C6BE-4C26-8F4D-8C0CF1C057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0868-1DAD-41D2-B51A-BC09447CF2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rldwildlife.org/pandas/facts.cf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e3e3ff"/>
                </a:solidFill>
                <a:latin typeface="Arial"/>
              </a:rPr>
              <a:t>IB2 Biology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S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esigning a Nature 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Ex Situ vs. In Sit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iscuss what the following terms mean in reference to ‘conservation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 Situ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x Situ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 Situ Conservation: Conservation efforts that are made by keeping the organism(s) in its/their natural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x Situ Conservation: Conservation efforts that are made by removing the organism(s) from its/their natural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hat are some examples of ea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Discuss whether the following are in situ or ex situ conservation effort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Zo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ature 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afari P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ee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otanical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almon f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An example: Panda Bea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0" descr="panda_eating_3370_473"/>
          <p:cNvPicPr/>
          <p:nvPr/>
        </p:nvPicPr>
        <p:blipFill>
          <a:blip r:embed="rId1"/>
          <a:stretch/>
        </p:blipFill>
        <p:spPr>
          <a:xfrm>
            <a:off x="3056040" y="1330200"/>
            <a:ext cx="31716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Pand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ndangered species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ery difficult to get them to breed in cap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ew effort is to set up ‘panda farms’ in areas where the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uch more success with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worldwildlife.org/pandas/facts.cf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Picture 4" descr="9147cd_panda_bears"/>
          <p:cNvPicPr/>
          <p:nvPr/>
        </p:nvPicPr>
        <p:blipFill>
          <a:blip r:embed="rId1"/>
          <a:stretch/>
        </p:blipFill>
        <p:spPr>
          <a:xfrm>
            <a:off x="2771640" y="1773360"/>
            <a:ext cx="3929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r task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design both an in situ and ex situ reserve for your chosen endangered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discuss the strengths and limitations of each approach and decide the approach you would recommend for your species. Present this to the class with your ration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7:38:37Z</dcterms:created>
  <dc:creator>kduguay</dc:creator>
  <dc:description/>
  <dc:language>en-US</dc:language>
  <cp:lastModifiedBy>Branksome Hall</cp:lastModifiedBy>
  <dcterms:modified xsi:type="dcterms:W3CDTF">2010-05-18T14:23:01Z</dcterms:modified>
  <cp:revision>5</cp:revision>
  <dc:subject/>
  <dc:title>IB2 Biology </dc:title>
</cp:coreProperties>
</file>